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64E-D660-4CE6-B529-7B0B7F3C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57D-2C4B-432B-B391-D275F2B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F37EB-6A74-4A72-839F-BF3F1038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4D268-C012-468C-AADB-904F53A3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1C859-98FB-41A6-9A17-7EF90E5D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F0B4B-642A-49F5-BD8C-30A64945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768AA-37D6-4540-BB7D-51A5CE06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3B856-F76A-4141-8C23-1035D839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83AC7-9288-4204-93E0-7A64F683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B174F-D5E4-422C-BC06-EA61E14F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F64AE-5F65-4043-9930-FB4BDB2A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4A33C-3562-41EB-AF24-7AF04D78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5E6-9F82-44F9-8E34-0408B7B3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DD5BD-3F06-4DD9-9807-9D502D74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3DC90-E952-4306-88C0-E8D3156D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C33F6-CABE-4366-8582-978CDD17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78604-92A1-4458-ADFD-EFBEF407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E1525-AE45-4BDE-84FC-F8B7C8D7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0FBCE-DBA0-4B3D-BDB7-C5101D8A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60DD0-F049-4813-90EE-1CC22D61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998BF-EC53-4D1F-870D-1DE407FE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EF2CD-65EB-4AA9-9F59-6C3869C8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AF0CB-40CE-4837-A659-CA56B2BC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2AC-00EE-4A24-8EED-86333472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82C86-1DD1-4115-8785-21D447F9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B4DD1-C064-464F-952B-BE634EA8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85897-4DEA-49C1-A5B2-87674053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E6E15-3491-4379-8FC9-D5EFC9EF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F9E82-0C51-4CC3-9D9F-0C2D02F0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7B8F3-2908-4DD8-A58C-F3622CCF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6F9FA-634C-4502-8506-AE36C18E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9BAA1-BE3D-4BBA-8A38-3D7E169F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01C5A-1141-4B01-8799-59275657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6A13B-1960-4981-890A-F108E9FC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DCD2-C471-47E6-9645-5A6A8EC6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B8A10-F484-4C56-9498-985B7E50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CF5D8-5CEF-4CED-83CF-443E4CD6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6D78C-DBCA-4C0F-A38D-9AFE9CC7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89D61-9839-4124-9DF9-DBB81B13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BB352-CB26-4445-BAA5-CCE10DDA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92D70-C46C-4183-AD1D-DF5FDD59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22027-5A31-49AC-B709-A34A3B7D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4DF1C-1FB1-453D-B210-96EA990F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4740A-69E7-494A-BF78-013959FD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D278F-0363-45FA-A580-49449659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B8E6-83A7-4299-B717-50D871B9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CA3DB-606E-4453-B274-2B42CC9D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3C3FC-EED5-4524-9A42-E58B6A18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6DFC6-8FD3-4D53-B56A-4E585DA5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1BB55-ED16-40E7-8D19-5CE2A629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090A1-5A73-4F8F-B39E-A7E29A48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C0902-A5B8-41EF-AEB9-0208B57B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DA1F3-66E4-4BE6-B084-667A04E8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45C47-0742-4DB0-8F9A-EE6F99FD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E45B2-50AA-4C4D-A193-AF32A08F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1C3F3-8140-4BA9-9A28-DEE64B09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E04D-5F5A-4A64-983C-F76DFFE1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EB1D1-A146-4967-A1E1-5C01FC7D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4EB96-A0B1-4AEA-B571-106799AF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CCE69-DCBA-4639-AFC4-67F8B432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7848E-9EB9-4694-BE15-2FC2D35C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F952F-6298-4600-8073-33B34B34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87FCD-A1B9-43EA-B08D-5D3F0D84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6DF9A-748C-4B9B-B7BD-47928662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332EB-C93A-4811-AB1C-19856B21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C7B6C-7670-4ADF-B1B8-99EF19CF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430D5-9C5F-4CF4-977A-6A61BB75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E15F-5F37-445F-8D84-CFEC2262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102F3-EFAC-4CEC-88A5-83EE0ED5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9E0FC-3E91-4837-9EB5-D14D0126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2D17D-D50C-456D-ABCD-4F57DAB4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98C37-76E0-4EFD-BE22-8960E43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EB54F-72A6-4D1E-9B6E-129702B6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4E3E2-9983-4A55-B344-E0E11ED8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678A7-F55E-40E3-9C87-6431F219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AEFE4-A003-435D-B930-42F1448A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52D7E-F135-40C6-BC39-94A6D235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BDBD3-0928-4F1A-BBE4-E30E3F5D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371C-3EB9-4CBC-956F-E8DB97AF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4003F-C77A-440E-BEBC-1295A883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CAE1B-D2AD-484B-BD2E-E65C102D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14482-E687-4D3D-B798-6576777C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CDE9B-711B-49F8-AB32-C7D1CDD1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4D9FD-6186-4877-A4F9-77BD53B1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271FD-08FA-4A1C-BE6D-B6B9DD1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1F83F-42ED-4B15-B7D0-316983CF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E84BF9-1DE3-4694-B6B3-825682DF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FE8CE-7CD5-4E86-9D29-ED15FDE4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A9D87-D178-4AC9-8541-4E699984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F0FA-9272-49B3-A552-A730EB09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3438C-13C0-4F09-A087-89BD764D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7330E-7AAF-4ECE-A734-31EE9520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67B899-B608-48F8-BD50-E8ED93D3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01E08-FCB7-4706-9760-E0F312A0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D0403-097F-41E1-867D-02CE012E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9C421-912D-4AD6-9388-83B764DD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EB419D-E44D-4FB9-B3EC-58C6A638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73CCFD-0925-42F0-958C-489199CA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4F1D15-CA3F-45C6-8CF7-9F30BCD1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B0571-D1CB-4298-A0D9-57E04BEB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CE7B-419E-4E08-8338-C72CBFF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D7BAE-3861-47BB-85EA-3F402F39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9D1DC-7B8E-4629-B0CC-F95BA5B2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C3E2B-D0D8-4EC5-99DC-3E8139CA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AFA98-5DC5-4540-985D-E2784457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E340E-2EC7-4CF5-AC0F-3411C456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C9465-FF73-4289-A399-9D01963C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B3C81-0C9C-472B-B3C4-C5809CF2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D41534-C63E-475A-BA1F-3F3CABC5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DDFFA-DB31-473D-A5A2-4F94848F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E2820-E6D4-45CB-B7CF-01A6D4E7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62D-B93D-498C-ADEF-E16340AF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C378-AD8A-454F-B6DC-24AA05EB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EA346-D5CD-4697-A2A7-06C9500E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F9912-5DDF-49DD-A6A5-C556F1E7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7C586-3E4D-4162-8531-C441F4BB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858A3-25EC-4574-90D3-E72128CF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BC548-236E-4B5D-AC93-E6319327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E6DBD9-BB88-4EA4-818A-C3D39E17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34D5F2-A798-4577-81FF-5E3D0119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F6ECFF-4E5F-4FE5-9D2B-2F17FBB8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72AE2E-4162-42E5-889C-609D0D4D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2761F-5B91-423A-B444-E9941F71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CE72-4ABC-49FC-8846-C2CBF946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AD173-4C7E-4213-A13B-679A00BB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DBEDF-54DE-4C1D-A916-A083D474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5DE74-5FF0-408E-B85F-327E8E13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C92B5-00AD-4C49-9EB2-8D1BDD21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517E76-188E-4589-9059-AF0030E2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6977B8-7091-4997-9A67-1B5EA304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48310E-F812-4F0B-A147-DA530F69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2385A8-9C90-413D-8201-BD8D4D17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6D717C-A571-419F-914F-67E5B03C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2A2C71-42A3-45EB-A9F3-137B8A0E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69FD-1585-4F95-BE12-55B3BDBF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279052-C750-4586-B1F9-3151AF47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4E24DE-8589-49E7-B793-3EE2B26A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A1B689-E938-4A63-BD07-31F026EC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846DAC-409F-426F-A595-ADBF9085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DC1EE-4D1C-4886-9E29-A29A2DCA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3830F1-B9A5-40E5-978C-DD3ACD0F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A9C189-7249-498E-98FD-FBB95F7C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A4A48-D44A-422A-AA73-DF909B53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B663DB-7EA4-41FB-BBBB-1D2C6987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0605A9-45E9-477C-B2F1-EFAADF5A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73AF-3777-4D28-BAF0-92471059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3D791A-093A-4003-B2CE-D307EEE8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D1E780-2E05-414C-800E-0A3B52AB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0FB59-963F-4902-9CBA-9BD5ECF3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3AB2F7-5665-400C-B21E-564A7691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3E3175-BB5C-4650-80D1-8722ED1B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679CA0-07FC-4E71-9A11-AB0EDC06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BBAC46-DF8C-4337-BB30-C1298632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E04B18-9824-41BE-853F-6C62CCAF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FC94A2-9BE2-4FC6-AC82-4857AF24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890D77-6711-4968-BE1D-966EAFBE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4569-0AA4-4BC3-81E3-7E6594B7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3C6FDE-AF3E-4984-B107-8C330876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96AA7-89F0-4DB4-A2E4-B9FE672F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2DA79B-80E0-41E5-9F1E-1F77E3C4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2B3C6-4C3F-4C7A-AE9C-0DDDA1D8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8C77C3-DBBD-4EC6-9831-947FBE5E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EFCEAB-5D6C-4E8E-94C9-179CE7A4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48046D-9209-4CD7-8699-3DBF5860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A5D3F9-3059-46B0-9AB8-B0AC215B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EF66CD-C65B-425A-9012-80FAE5EE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97AF42-9BF5-4C2C-8CB4-D7F2653F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9AAF-42AF-4889-AF91-C0BBCEAC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7A6ACD-D41E-46AE-A75B-485C794F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0F4565-86E5-4C3E-9831-E6C57E1A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D1A792-CCC2-411B-94C1-74FE1CD7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9907-4CA8-420F-A674-08BFCD1D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A53B-D796-4A48-8D66-7BA27987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CCD0-5D7E-48DE-8C1A-653BA9E5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2196-2CE9-48AD-A3C7-37E40AC6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0A0-47C7-4FF3-BC05-9AEA95E3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0F45-5A29-4526-8DEF-2A49C149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BDCC-9B9B-4DB6-BBCA-58756608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DAD3-4E6E-4AFA-B51F-CDE8FE83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329D-4EF7-4D50-9B7D-C05A3475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11851-A8ED-421D-A28D-1AE99247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357EC-FDE9-4F4B-9360-3DBC0B7B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579D-0497-4B88-B17F-8B9BBE81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448C-AEDA-4507-B548-50C64B94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40DE-0D4B-40AE-88A2-969921CC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C66D-C4A5-4A69-9002-95BDE09F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8CC-E7B7-45C6-BBF9-5491B582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2668-7518-47CA-AF31-3E57F4A1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C15B4-E7FF-4A3F-BEF1-86A25DA2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11154-2D93-40A3-AEDC-9BD6355D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3B5BF-6852-4AC5-B888-9B595749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195A8-EDE1-4A25-BFFE-582CBB98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F5D17-C9A4-4DA5-8A60-A95CD9BA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0E77-5A93-4340-9B0A-00777609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8F2C0-62F7-4FAC-BC72-CBC95A5D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97F63-1DFC-4BBE-85D3-70CCE6A9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84893-E0D0-46CB-97DB-2877319A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E9D-82CD-4527-96B4-1FFEE253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39FE9-2A85-49B6-9DBD-E4AFCDE2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DD501-E23F-4001-8AA3-8E8F4C1C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45387-F1FF-4308-9C18-C4606276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46F25-106E-45D6-8E49-5DB9B174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BD633-F44C-4B74-8407-2E696E7D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835ED-1BC0-409D-8884-3F7DBC28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2BF09-13C0-40A6-8FA3-C6A6F0EB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F07A6-F71A-40AB-A961-C2C295B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0C009-E407-4DFD-9E15-0A76C1F3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CBF55-24E4-4208-AEFD-62A07AE7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029-66B7-495D-AF6B-0EF88004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C435F-2AD3-41B5-B9F1-78CABA2D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507A-6F35-4034-8DFE-896FF913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A4CEB-ED8D-41FF-99BF-46C0FF02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26074-3A94-4BA0-ACA8-D6890EE3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2658C-4B3C-41BE-9A4E-22DAA195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DAD5B-FD7C-4C7B-980A-AE527057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AB52D-4DE8-4476-A11D-793264B5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EBF5C-5217-4758-BDC4-8F01D3D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B7862-22B9-4622-82FC-9D20C62D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366B4-7CDF-439D-B858-AF98ED1E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465-7A62-4C72-87CD-FD9DF8AE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BB8F0-1C14-4EE3-BE7F-CDE4360E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4C336-927F-4E73-B2EE-46748D65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5F643-E55A-4468-AE4C-E205C13F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18C0F-6520-4E48-B572-7E834635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AD2B1-820D-4986-8F4D-1C0DB70E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7F36D-C7C4-49D7-9B41-CA005C6A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65446-4484-43D4-BEAF-F6462552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DA4BF-5656-4768-9A4C-20CE3CD6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0FEF7-EDAC-4A0C-9A10-6E5B9C20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B4AF2-7C8F-4616-870C-F1193082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E179-7968-4D81-952C-0D4D3A10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0ACE8-3067-41CE-A33D-57CCED3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DF7FB-29A5-4DB1-A520-D1F7C3C4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57E28-1753-4375-B786-096E6CB5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EBD6E-3B47-4193-85E0-14D33110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D2FD0-0E12-4425-9419-2F7442ED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60658-E5D7-442D-849F-7EFEDBE5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52FC5-96CC-4B04-BD22-59AA0F27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79169-83E2-4C0B-96D5-2D7711A5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D4C74-39CE-45B3-B29C-D4BF1B29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2D230-D0BF-464B-BBBF-B7AFCEA8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8FD-F2A4-49D7-88FD-7941C19C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8AECD-828D-4D24-AAA6-09460DEE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64418-D7FE-4242-9DB1-BD8FA2F1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4D130-6502-4D13-8DA2-3BA867BA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2FF3E-8D21-4A3C-AEC1-D8560444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71118-C270-4AD5-BEC0-7A91D6C4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88CC3-90AA-426C-8D4F-3FD9C1E2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7E218-7895-46DD-9C02-926CD777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B8695-4496-46DF-8B7B-6B9AC7AC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65D55-CE25-479F-A231-31FD023C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FF263-F2FA-47DF-925D-43610B8F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1B4F-71D3-4A53-86DE-2D82991C71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78F0-B023-48F2-8DEE-7199D0722E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C101-C3BA-45EC-98CF-8B6BB2A06A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CCF6-7DDB-451D-A31B-BC6DCADDF4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EA04-BC09-4D5A-97BB-2ECE8FFFE9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1BC1-F8E1-47E9-BA46-BF1BA1992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F442-3709-44E4-B8F9-13993E8733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0DD9-B02A-4BA0-9107-F05AC39DDF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FD76-793B-43D2-BF4E-398AA83FF4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C214-F070-47EB-944D-BBFA7E7BB5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F8A3-F022-4C5C-BE8C-3826705C43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54BE-CB1E-4AB8-B3EE-5703EEBD6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5B3-8C59-4EE4-AB78-9A98DDA69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A03A-3B0E-4CBD-89AA-549E732205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BD3D-C53E-434F-8BFD-F0F601D2B5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A291-FACC-479E-BABE-55821B70DF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A1F4-F4DF-4806-8599-7840ECD7BA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DEB2-14D8-4F7F-999F-1E3DDF47DC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ECA2-A2A9-49B8-B4C5-CCC2F5813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D63B-C5B3-4B06-9AFC-EDA099EDBD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0CF8-1C25-4904-B5C4-04BCC6E1C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36EE-DDA3-4F31-9BDE-984A809967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81BD-563E-41D8-AB15-9EAD84A125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38A3-4ADC-4B96-967F-9461AA5FCD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BBC0-AE72-46C4-A5D9-B98FD0DF15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58BE-4BBF-4134-A31F-8DACA3804F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2944-7C97-4887-B4BC-743988D655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44AF-D9D7-4916-98EE-5491668C2E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E0BE-EC93-49FE-A5B3-C00E9DF62F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1321-0F17-45F0-AF40-75FECB2E78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5BE1-DB46-4CBB-AC85-F5C0FF481F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5CFE-92B7-4EBC-AC50-E09F8DADB3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E060-E943-4D3F-B1AB-C5BB2D771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9DEA-59C6-4E8D-83E5-4E645D89F8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FFD1-506B-435C-9F59-1F6B1FF5F1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16CC-E928-4257-B795-195B645D84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27BC-FF16-481D-9328-2FEB6A17D8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305B-67A3-4C76-A2CB-0F19424DF1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767D-55D9-4F89-8C3D-3DE22FEFD2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2598-F3AC-4E1A-A050-71177A1CD2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004760" y="2705040"/>
            <a:ext cx="713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71360" y="1271520"/>
            <a:ext cx="8801280" cy="4314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76360" y="278136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619280" y="314172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609560" y="351000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408560" y="278136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510080" y="314172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500720" y="351000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308720" y="274320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442280" y="314172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7442280" y="351000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638360" y="450864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997360" y="450864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6075360" y="450864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7667640" y="450864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1619280" y="491328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222720" y="488808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6021360" y="488808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667640" y="487836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1628640" y="5281560"/>
            <a:ext cx="35892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2987640" y="530064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6040440" y="527220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7389720" y="5281560"/>
            <a:ext cx="3589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9410" descr=""/>
          <p:cNvPicPr/>
          <p:nvPr/>
        </p:nvPicPr>
        <p:blipFill>
          <a:blip r:embed="rId1"/>
          <a:stretch/>
        </p:blipFill>
        <p:spPr>
          <a:xfrm>
            <a:off x="500040" y="2719440"/>
            <a:ext cx="8143920" cy="1419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51452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362592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5599080" y="3284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772164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1889280" y="3789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3986280" y="3789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5734080" y="3789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8215200" y="378936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8373" descr=""/>
          <p:cNvPicPr/>
          <p:nvPr/>
        </p:nvPicPr>
        <p:blipFill>
          <a:blip r:embed="rId1"/>
          <a:stretch/>
        </p:blipFill>
        <p:spPr>
          <a:xfrm>
            <a:off x="157320" y="880920"/>
            <a:ext cx="8829360" cy="55724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755640" y="287172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2195640" y="287172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3564000" y="287172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4932360" y="287172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6227640" y="287172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684360" y="4124160"/>
            <a:ext cx="2808000" cy="257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684360" y="4508640"/>
            <a:ext cx="2808000" cy="2570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684360" y="5656320"/>
            <a:ext cx="360036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0"/>
          <a:stretch/>
        </p:blipFill>
        <p:spPr>
          <a:xfrm>
            <a:off x="684360" y="6040440"/>
            <a:ext cx="3600360" cy="257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1"/>
          <a:stretch/>
        </p:blipFill>
        <p:spPr>
          <a:xfrm>
            <a:off x="8494560" y="3122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2"/>
          <a:stretch/>
        </p:blipFill>
        <p:spPr>
          <a:xfrm>
            <a:off x="8504280" y="3500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3"/>
          <a:stretch/>
        </p:blipFill>
        <p:spPr>
          <a:xfrm>
            <a:off x="8494560" y="3933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4"/>
          <a:stretch/>
        </p:blipFill>
        <p:spPr>
          <a:xfrm>
            <a:off x="8504280" y="4365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5"/>
          <a:stretch/>
        </p:blipFill>
        <p:spPr>
          <a:xfrm>
            <a:off x="8485200" y="4743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6"/>
          <a:stretch/>
        </p:blipFill>
        <p:spPr>
          <a:xfrm>
            <a:off x="8504280" y="515772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7"/>
          <a:stretch/>
        </p:blipFill>
        <p:spPr>
          <a:xfrm>
            <a:off x="8494560" y="56023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8"/>
          <a:stretch/>
        </p:blipFill>
        <p:spPr>
          <a:xfrm>
            <a:off x="8494560" y="598788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9:15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